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516-0585-426F-8520-3CA068F4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03E-FD7C-4B4D-9630-D55949AB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E99-0A48-4EA3-8DC9-9FF0FCBC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91D-1C68-4CAF-BE15-9B38800C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884-6421-4975-ADAE-DEF9865C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DDA-D349-4C78-B6E0-29592B6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BE8-1198-422D-A1DF-643358E2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883-E30D-478D-AAFF-8CB1E71C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DCB-08B5-4C41-B4C8-FC7BE44B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993-9051-4879-8614-693481B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7E4-1149-44A7-904D-472FCAD6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224-D04A-49B7-8798-9319B578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951B-C153-4724-9297-90C687540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tstripsforschools.com/" TargetMode="External"/><Relationship Id="rId2" Type="http://schemas.openxmlformats.org/officeDocument/2006/relationships/hyperlink" Target="http://www.bitstripsforschool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eople/en321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itstrips For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tstripsforschool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243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Verdana"/>
              </a:rPr>
              <a:t>Media Literacy Triang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438280"/>
            <a:ext cx="2895840" cy="2743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7809800">
            <a:off x="3087000" y="3390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3630000">
            <a:off x="4772160" y="3662280"/>
            <a:ext cx="18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Product</a:t>
            </a:r>
            <a:r>
              <a:rPr b="1" lang="en-US" sz="1800" spc="-1" strike="noStrike">
                <a:solidFill>
                  <a:srgbClr val="009999"/>
                </a:solidFill>
                <a:latin typeface="Verdana"/>
                <a:ea typeface="Arial"/>
              </a:rPr>
              <a:t>i</a:t>
            </a: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9000" y="525780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6002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media messages are construc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ntario Revised Language Curriculum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2666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narrative, recount procedural, persu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character, setting, plot,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values,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3124080"/>
            <a:ext cx="2361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copy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586728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638680" y="1600200"/>
            <a:ext cx="3276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ts – establishing (setting), clos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– colour, 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nels – tilt, 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tters – inferring,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pattern -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461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9999"/>
                </a:solidFill>
                <a:latin typeface="Arial"/>
              </a:rPr>
              <a:t>Reflective A&amp;E Ques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914400"/>
            <a:ext cx="85341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Tahoma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tstrips  -  Assessment for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itstrips - Assessment of Learning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mic/Graphic Novel Genre – tool for differentiated assessmen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4148280" cy="2422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35240" y="1714680"/>
            <a:ext cx="4673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35240" y="1714680"/>
            <a:ext cx="4673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477120"/>
            <a:ext cx="46530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lickr.com/people/en321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17:18Z</dcterms:created>
  <dc:creator>OCDSB</dc:creator>
  <dc:description/>
  <dc:language>en-US</dc:language>
  <cp:lastModifiedBy>OCDSB</cp:lastModifiedBy>
  <dcterms:modified xsi:type="dcterms:W3CDTF">2011-02-11T22:39:19Z</dcterms:modified>
  <cp:revision>2</cp:revision>
  <dc:subject/>
  <dc:title>Bitstrips For Schools</dc:title>
</cp:coreProperties>
</file>